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C4D-2DE5-49D3-98FF-B4C3CA43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583-97E6-4636-917B-4BF6BAFE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657-C416-4E1A-BA32-45E91B96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7DD-D7F9-4EA2-8E4E-B8630131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41398-D9CE-4A66-A3F4-F73D21CF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3B0E5-98C5-48A0-9D1D-C4DD4ED4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AE603-3DEC-462E-B98C-2C29FD8B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555FF-4ADC-412D-808C-FE224E0E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35D76-EE64-43EE-93C7-7533ABBC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4978B-EDF3-441E-AB93-D1D2F5D9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2523E-7595-4018-888E-B4A6D77B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CD5-8C67-4321-9AC6-04669431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DC8A1-ABC9-4201-969F-D99F3056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37DE4-AC4E-408D-88DF-44F8DF38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6DBC4-301F-446B-9E80-D8397A96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8560D-8157-4546-A6AB-D7C1F7B5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35CDF-E7B7-4DFC-BBB3-39BF550C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D9B-DF48-40DF-BE06-6193097E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888F-2EBE-46EE-8A05-DE25DD7F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7DA-9259-4736-8496-0F273EBA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17D-85CD-4025-88D6-59CCAE6C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8AF-58E0-4698-87E2-8F2BA96D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13E-A214-4ECD-910D-B4000837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E16-91C0-4CEC-BBBE-6C7E613B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C92C-5CFA-4637-B6FB-C4568BD7EA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E38C-4A91-4B85-A7A1-7FCEEE3EC1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Green Lynx Spider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 Henry Wenz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2971800" cy="2440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781680" y="4067280"/>
            <a:ext cx="21337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een Lynx Spider Habit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 Lynx Spiders live in the southern United States. They also live in Mexico and Central America, and often have their homes in clumps of prickly pear cactu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sum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 Lynx Spiders usually eat other insects such as bees and wasps. It is a helpful insect because it eats a lot of bugs that damage crops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 Lynx spiders usually live in warm climates.  The climate they live in is usually dry as well.  Green Lynx spiders are very rarely found in a cold ar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efinition of Symbiotic Relationship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salism is a class of relationships between two organisms where one benefits the other and the other is not significantly harmed or gains benef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biotic and Biotic Features of the Habita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its biotic features are other insects and, if they are living near a city, hum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its abiotic features are things like water and the sun.  Bugs like come out when it’s warm and sun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5:45:51Z</dcterms:created>
  <dc:creator> </dc:creator>
  <dc:description/>
  <dc:language>en-US</dc:language>
  <cp:lastModifiedBy> </cp:lastModifiedBy>
  <dcterms:modified xsi:type="dcterms:W3CDTF">2009-01-15T15:41:48Z</dcterms:modified>
  <cp:revision>21</cp:revision>
  <dc:subject/>
  <dc:title>Green Lynx Spider</dc:title>
</cp:coreProperties>
</file>